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5486400" cy="41148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4897440" cy="37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865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2418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dt" idx="1"/>
          </p:nvPr>
        </p:nvSpPr>
        <p:spPr>
          <a:xfrm>
            <a:off x="4398480" y="-360"/>
            <a:ext cx="32418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9555120"/>
            <a:ext cx="324180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4398480" y="9555120"/>
            <a:ext cx="324180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B78327-CE7E-4385-AFF0-557F261BA31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371600" y="763560"/>
            <a:ext cx="5000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879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1120" y="763560"/>
            <a:ext cx="50245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879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71600" y="763560"/>
            <a:ext cx="4902120" cy="37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879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371600" y="763560"/>
            <a:ext cx="4902120" cy="37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879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1120" y="763560"/>
            <a:ext cx="50245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879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1120" y="763560"/>
            <a:ext cx="50245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879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71600" y="763560"/>
            <a:ext cx="49039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879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1120" y="763560"/>
            <a:ext cx="50245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879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71600" y="763560"/>
            <a:ext cx="49039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879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71600" y="763560"/>
            <a:ext cx="49039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879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79440" y="-46440"/>
            <a:ext cx="475128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5776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2440" y="2229840"/>
            <a:ext cx="475776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79440" y="-46440"/>
            <a:ext cx="475128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164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90720" y="842760"/>
            <a:ext cx="232164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52440" y="2229840"/>
            <a:ext cx="232164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2790720" y="2229840"/>
            <a:ext cx="232164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79440" y="-46440"/>
            <a:ext cx="475128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153180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961280" y="842760"/>
            <a:ext cx="153180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570120" y="842760"/>
            <a:ext cx="153180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52440" y="2229840"/>
            <a:ext cx="153180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1961280" y="2229840"/>
            <a:ext cx="153180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3570120" y="2229840"/>
            <a:ext cx="153180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79440" y="-46440"/>
            <a:ext cx="475128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52440" y="842760"/>
            <a:ext cx="475776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6375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79440" y="-46440"/>
            <a:ext cx="475128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5776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79440" y="-46440"/>
            <a:ext cx="475128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164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790720" y="842760"/>
            <a:ext cx="232164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79440" y="-46440"/>
            <a:ext cx="475128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79440" y="-46440"/>
            <a:ext cx="4751280" cy="426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6375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79440" y="-46440"/>
            <a:ext cx="475128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164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790720" y="842760"/>
            <a:ext cx="232164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2440" y="2229840"/>
            <a:ext cx="232164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79440" y="-46440"/>
            <a:ext cx="475128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164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790720" y="842760"/>
            <a:ext cx="232164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790720" y="2229840"/>
            <a:ext cx="232164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79440" y="-46440"/>
            <a:ext cx="475128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164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790720" y="842760"/>
            <a:ext cx="232164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52440" y="2229840"/>
            <a:ext cx="475776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673440"/>
            <a:ext cx="4479840" cy="265320"/>
          </a:xfrm>
          <a:prstGeom prst="roundRect">
            <a:avLst>
              <a:gd name="adj" fmla="val 255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79440" y="3679920"/>
            <a:ext cx="2176560" cy="258840"/>
          </a:xfrm>
          <a:prstGeom prst="roundRect">
            <a:avLst>
              <a:gd name="adj" fmla="val 255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NE LAPTOP PER CHI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79440" y="-46440"/>
            <a:ext cx="475128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52440" y="842760"/>
            <a:ext cx="475776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1680" indent="-2667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65320" indent="-1191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9684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1936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1936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1936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93760" y="3940200"/>
            <a:ext cx="27608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is works are licensed under a Creative Commons Attribution 2.5 License.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4325760" y="3649680"/>
            <a:ext cx="1143000" cy="33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79440" y="1609200"/>
            <a:ext cx="4819680" cy="4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One Laptop per Child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2895480"/>
            <a:ext cx="5486400" cy="76212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Laptop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November 18, 2008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5486400" cy="16732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221840" y="1981080"/>
            <a:ext cx="30762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b3b3b3"/>
                </a:solidFill>
                <a:latin typeface="Arial"/>
              </a:rPr>
              <a:t>One Laptop per Ch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Power Management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560" y="837720"/>
            <a:ext cx="480060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1680" indent="0">
              <a:spcBef>
                <a:spcPts val="3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ailable toda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ware ready for suspend/resu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t stable builds have support for sleep on lid close or but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out 4 hours of battery life during normal 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-16 hours of battery life in sleep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“Extreme” power savings mode + additional power savings in sleep for non-mesh. (40+ hours of life in slee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79080" y="2880"/>
            <a:ext cx="475596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Deployment Planning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080" y="843120"/>
            <a:ext cx="476244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1680" indent="-2667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loyment Location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2667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need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many schools, how many kids, and how many kids per school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many school off power grid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many hours of usage daily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is the climate and geography of deployment areas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natural resources are available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79080" y="2880"/>
            <a:ext cx="475596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Challenges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52080" y="842760"/>
            <a:ext cx="4762440" cy="257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1680" indent="-2667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lying power can be a large and difficult challenge in a deployment.  Even in areas with a power gr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2667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ck of an established grid increased the difficulty significantl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2667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recipe solutions. Each site is un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How Much Power?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4114800" cy="24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1680" indent="-2667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Primary modes of laptop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rging batt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 charg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-2667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rging batt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x draw of 21 Wat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oser to 26 W w. power factor corr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-2667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 char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 than 1 Watt in sleep m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erage of 4 – 7 Watts while running w. peaks up to 9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125280"/>
            <a:ext cx="49528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How Much Time to Charge ?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476424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1680" indent="-2667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est with the Laptop off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power used to charge batt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hour 46 Minu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2667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ptop 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cess power used to charge batte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out 2 and half 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79440" y="2880"/>
            <a:ext cx="475776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Individual solar panels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52440" y="843120"/>
            <a:ext cx="4764240" cy="25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1680" indent="-2667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ing maximum output (full su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2667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the lapt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W charges laptop in 5 hours 15 minu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W charges laptop in 3 hours 45 minu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W charges laptop in 2 hours 40 minu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1120" y="200160"/>
            <a:ext cx="4664160" cy="4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ff8080"/>
                </a:solidFill>
                <a:latin typeface="Arial"/>
              </a:rPr>
              <a:t>Alternative</a:t>
            </a: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 Power Sources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0760" y="777600"/>
            <a:ext cx="4937040" cy="26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1680" indent="-2667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dividual So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0 Watt solar pa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nly for smallest sch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2667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entralized So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igh initial c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rge solar panel arrays and charge ctl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ome battery storage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verters to minimize distribution 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5176800" cy="36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79440" y="2880"/>
            <a:ext cx="475776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ff8080"/>
                </a:solidFill>
                <a:latin typeface="Arial"/>
              </a:rPr>
              <a:t>Alternative Power Sources</a:t>
            </a:r>
            <a:endParaRPr b="1" lang="en-US" sz="26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52440" y="843120"/>
            <a:ext cx="4764240" cy="25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1680" indent="-2667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r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ill needs 2 hours of crank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t viable with existing XO lap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2667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e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pprox 30 Watt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7Ah Lead Acid batt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ill charge 2 laptop batteries in 2 h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2667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rass Ro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w 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ater, Wind, Pedal,Treadl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79440" y="2880"/>
            <a:ext cx="475776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Multi-Battery Charger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52440" y="843120"/>
            <a:ext cx="4764240" cy="25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1680" indent="-2667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rges 15 batteries in 2 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00 Watt A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0 Watt DC option (10 – 28 Volt inpu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5320" indent="-1191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 Batteries in 2 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5320" indent="-1191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 connection to 2 x 60W solar blanket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ailable in Febru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Camrbridge, MA
April 23-27, 2007
</dc:description>
  <dc:language>en-US</dc:language>
  <cp:lastModifiedBy>John Watlington</cp:lastModifiedBy>
  <dcterms:modified xsi:type="dcterms:W3CDTF">2008-11-18T16:35:00Z</dcterms:modified>
  <cp:revision>2</cp:revision>
  <dc:subject/>
  <dc:title>One Laptop per Child</dc:title>
</cp:coreProperties>
</file>